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2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52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82200"/>
            <a:ext cx="4502160" cy="33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52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52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461F-22D4-436E-AB2D-D21A6010A4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5755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8BB-250C-4A9E-B1EF-E42ECFB69C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82560"/>
            <a:ext cx="4499280" cy="3373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5755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3BC-1EC9-457A-A1BF-AC35315819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9360" y="682560"/>
            <a:ext cx="4499280" cy="3373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655-93AF-4FC7-A1F9-EBBE466D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BC4-8ED8-4E3B-8026-482B724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4EC-0572-4B95-84ED-096E27F5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346-4E72-4BCE-9B11-3189E016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B72-E5FE-49EB-ABF9-BA7E858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BF6-32EF-4BEF-8E20-72C5CB2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902-E582-4694-946D-5475FDF4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FF1-B4F0-47DF-93B2-E3CA10C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A97-CFA2-4398-BFF4-86795BA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0F5-85AE-4A0B-B485-47FE72A9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DA9-250F-4959-A491-B6EC5CF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901-14BB-4FE7-B028-296E465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CFBC-6AA2-46F6-B2F6-AA525D73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energy/U5L2a.html" TargetMode="External"/><Relationship Id="rId2" Type="http://schemas.openxmlformats.org/officeDocument/2006/relationships/hyperlink" Target="http://www.glenbrook.k12.il.us/gbssci/phys/Class/energy/u5l2b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physics.davidson.edu/mazur/ch9/ex9_3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deafinder.com/history/inventors/watt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inclplane.htm" TargetMode="External"/><Relationship Id="rId2" Type="http://schemas.openxmlformats.org/officeDocument/2006/relationships/hyperlink" Target="http://www.enchantedlearning.com/physics/machines/Levers.shtml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ocities.com/bioelectrochemistry/joule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0880" y="20520"/>
            <a:ext cx="8359920" cy="676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3"/>
          <p:cNvGraphicFramePr/>
          <p:nvPr/>
        </p:nvGraphicFramePr>
        <p:xfrm>
          <a:off x="336600" y="324000"/>
          <a:ext cx="8805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324000"/>
                    <a:ext cx="8805960" cy="586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188800" y="3886200"/>
            <a:ext cx="47282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 more abo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ork-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-114840" y="457200"/>
            <a:ext cx="92818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 force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 object to change its K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 force causes an object to acceler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acceleration means a change in veloc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if velocity changes, K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 flipV="1">
            <a:off x="952560" y="114120"/>
            <a:ext cx="7313400" cy="137160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170800" y="166680"/>
            <a:ext cx="489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Potenti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92880" y="836640"/>
            <a:ext cx="724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energy of position or con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04640" y="1751040"/>
            <a:ext cx="655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gravitational potential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66560" y="2408400"/>
            <a:ext cx="46821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E</a:t>
            </a:r>
            <a:r>
              <a:rPr b="1" lang="en-US" sz="7200" spc="-1" strike="noStrike" baseline="-25000">
                <a:solidFill>
                  <a:srgbClr val="0000ff"/>
                </a:solidFill>
                <a:latin typeface="Comic Sans MS"/>
              </a:rPr>
              <a:t>g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 = mg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9000" y="3733920"/>
            <a:ext cx="82958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mass of object in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- acceleration of gravit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/s</a:t>
            </a:r>
            <a:r>
              <a:rPr b="1" lang="en-US" sz="36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height of object,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m some arbitrary referenc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gravitational potential energ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 flipV="1">
            <a:off x="952560" y="114120"/>
            <a:ext cx="7313400" cy="137160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70800" y="90360"/>
            <a:ext cx="489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Potenti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92880" y="836640"/>
            <a:ext cx="724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energy of position or con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085840" y="1676520"/>
            <a:ext cx="519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lastic potential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58200" y="2438280"/>
            <a:ext cx="48466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E</a:t>
            </a:r>
            <a:r>
              <a:rPr b="1" lang="en-US" sz="7200" spc="-1" strike="noStrike" baseline="-25000">
                <a:solidFill>
                  <a:srgbClr val="0000ff"/>
                </a:solidFill>
                <a:latin typeface="Comic Sans MS"/>
              </a:rPr>
              <a:t>e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 = ½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kx</a:t>
            </a:r>
            <a:r>
              <a:rPr b="1" lang="en-US" sz="7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914400" y="3886200"/>
            <a:ext cx="72579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elastic constant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/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- elongation or compression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elastic potential energ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33760" y="6095880"/>
            <a:ext cx="7625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investigate elastic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304920"/>
            <a:ext cx="9142560" cy="2133360"/>
          </a:xfrm>
          <a:prstGeom prst="rect">
            <a:avLst/>
          </a:prstGeom>
          <a:gradFill rotWithShape="0">
            <a:gsLst>
              <a:gs pos="0">
                <a:srgbClr val="008e6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4760" y="455760"/>
            <a:ext cx="7893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0" y="1274760"/>
            <a:ext cx="9231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“</a:t>
            </a: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Energy can be neither created nor destroy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It may only change forms.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40" y="2970360"/>
            <a:ext cx="9141120" cy="118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ypes of energy before the 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ll types of energy after the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2280" y="4716360"/>
            <a:ext cx="8699400" cy="191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dropped object loses gravitational PE as it gains K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block slides across the floor and comes to a sto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compressed spring shoots a ball into the a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09480" y="380880"/>
            <a:ext cx="8001000" cy="2438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0800" y="198360"/>
            <a:ext cx="7328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33"/>
                </a:solidFill>
                <a:latin typeface="Arial Black"/>
              </a:rPr>
              <a:t>Power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definition,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doing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rate transf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184480" y="3632040"/>
            <a:ext cx="4775040" cy="187992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/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875160" y="5775480"/>
            <a:ext cx="7382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ower is 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scala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quantity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2200" y="441360"/>
            <a:ext cx="512892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I unit of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ed in hono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James Wat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58720" y="3554280"/>
            <a:ext cx="8102520" cy="3148200"/>
          </a:xfrm>
          <a:prstGeom prst="octagon">
            <a:avLst>
              <a:gd name="adj" fmla="val 24394"/>
            </a:avLst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98920" y="3611520"/>
            <a:ext cx="74314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ne Watt, W,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s the power ach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en </a:t>
            </a: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1.0 J of work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s don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.0 J of energy is transfer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ime of 1.0 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SCwattP"/>
          <p:cNvPicPr/>
          <p:nvPr/>
        </p:nvPicPr>
        <p:blipFill>
          <a:blip r:embed="rId2"/>
          <a:stretch/>
        </p:blipFill>
        <p:spPr>
          <a:xfrm>
            <a:off x="6629400" y="304920"/>
            <a:ext cx="2179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216000"/>
            <a:ext cx="838188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 Black"/>
              </a:rPr>
              <a:t>Simpl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 device that is used to manipulate the am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d/or direction of force when work is d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 common misconception is that machines are used to do a task with less work than would be needed to do the task without the machine.  They do not!  In fact (mainly because of friction), you actually do more work with a machine than without it (for the same tas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he major benefit of a machine i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he work can be done with less applied force, but at the expense of the distance through which the force must be appli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27936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 Black"/>
              </a:rPr>
              <a:t>Work = Force x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 forc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small distance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small forc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 d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 example, 1000 J of work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lift 1000 N onto a table 1.0 m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 object were pushed up a 4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mp (inclined plane), a minimum of 250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force would be needed (250 N x 4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1000 J).  In reality, friction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object and the ramp would mak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cessary force greater than 250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76320" y="392040"/>
            <a:ext cx="90676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If a 10 m ramp were used, a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f 100 N of forc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The greater the distance,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maller the necessary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Efficiency of 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the ratio of useful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utput to useful work inpu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It is impossible to get as much “useful”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r energy out of a machine as you put in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52280" y="228600"/>
            <a:ext cx="891540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sider the lever, pulley, and inclined plane as examples of simple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Inclined plan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cessary force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an increase i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ev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used to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 by increasing d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nges direction of force (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ulley: used to decrease force by increasing distance;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y change direction of force (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The Six Simple Machines"/>
          <p:cNvPicPr/>
          <p:nvPr/>
        </p:nvPicPr>
        <p:blipFill>
          <a:blip r:embed="rId3"/>
          <a:stretch/>
        </p:blipFill>
        <p:spPr>
          <a:xfrm>
            <a:off x="5257800" y="914400"/>
            <a:ext cx="3638520" cy="2174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147840" y="510552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Click here to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an interesting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on simple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25304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2560" cy="6780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824400" y="860400"/>
            <a:ext cx="75902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Work is only done by a force on a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object if the force causes the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to move in the direction of the forc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76400" y="3679920"/>
            <a:ext cx="705996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Objects that are at rest m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have many forces acting on them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ut no work is d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if there is no mov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95880" y="228600"/>
            <a:ext cx="78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ick here to explore energy, work, a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ork-Energy Theorem in more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135080" y="1447920"/>
            <a:ext cx="686592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24320" y="46080"/>
            <a:ext cx="77061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33"/>
                </a:solidFill>
                <a:latin typeface="Arial Black"/>
              </a:rPr>
              <a:t>Work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definition,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roduct of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fo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xert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 object and the 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ves in the direction of the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184480" y="3784680"/>
            <a:ext cx="4775040" cy="187956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F·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667520" y="5897520"/>
            <a:ext cx="5607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 is a 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scala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487440"/>
            <a:ext cx="4663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I unit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Jou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d in honor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James Prescott Jou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637320" y="66600"/>
            <a:ext cx="2278080" cy="3362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406440" y="3862440"/>
            <a:ext cx="8407440" cy="2616120"/>
          </a:xfrm>
          <a:prstGeom prst="octagon">
            <a:avLst>
              <a:gd name="adj" fmla="val 29292"/>
            </a:avLst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76320"/>
            <a:ext cx="2438640" cy="304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2720" y="3916440"/>
            <a:ext cx="7271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ne Joule, J,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s the work done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.0 N of force is appl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ough a distance of 1.0 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553080" y="3200400"/>
            <a:ext cx="2438640" cy="380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90720" y="-3816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-122400" y="122400"/>
            <a:ext cx="66376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Graphically, work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e area unde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Force vs. Displacement”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2743200" y="2362320"/>
            <a:ext cx="0" cy="2666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209680" y="4648320"/>
            <a:ext cx="4114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109320" y="473868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lacement,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1447920" y="2687760"/>
          <a:ext cx="1904760" cy="172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687760"/>
                    <a:ext cx="190476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Line 8"/>
          <p:cNvSpPr/>
          <p:nvPr/>
        </p:nvSpPr>
        <p:spPr>
          <a:xfrm>
            <a:off x="2743200" y="324972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766960" y="3276720"/>
            <a:ext cx="2133720" cy="133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2895480"/>
            <a:ext cx="8839440" cy="381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8480" y="198360"/>
            <a:ext cx="80578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the force and displacement are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in the exact same direc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ork = Fd(cos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angle between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rection and displacement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447920" y="4572000"/>
            <a:ext cx="6324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536840" y="3851280"/>
            <a:ext cx="1269720" cy="660240"/>
          </a:xfrm>
          <a:prstGeom prst="rect">
            <a:avLst/>
          </a:prstGeom>
          <a:solidFill>
            <a:srgbClr val="ff00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2354400" y="3274560"/>
            <a:ext cx="1311120" cy="917640"/>
          </a:xfrm>
          <a:prstGeom prst="line">
            <a:avLst/>
          </a:prstGeom>
          <a:ln w="50760">
            <a:solidFill>
              <a:srgbClr val="ff33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2386080" y="4192560"/>
            <a:ext cx="5386320" cy="223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565440" y="2909880"/>
            <a:ext cx="139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=40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708800" y="3747960"/>
            <a:ext cx="159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3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77080" y="4662360"/>
            <a:ext cx="7453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ork done in moving the block 3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he right by the 40 N force at an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35  to the horizontal i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2916360" y="3809880"/>
                <a:ext cx="585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2571840" y="5562720"/>
                <a:ext cx="201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3"/>
          <p:cNvSpPr/>
          <p:nvPr/>
        </p:nvSpPr>
        <p:spPr>
          <a:xfrm>
            <a:off x="235080" y="6018120"/>
            <a:ext cx="865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W = Fd(cos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 = (40N)(3.0 m)(cos 35) = 98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147120" y="30240"/>
            <a:ext cx="2682720" cy="10069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Arial Black"/>
              </a:rPr>
              <a:t>Ener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941040" y="1065240"/>
            <a:ext cx="743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bility (capacity) to do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5040" y="2095560"/>
            <a:ext cx="8458200" cy="1828800"/>
          </a:xfrm>
          <a:prstGeom prst="hexagon">
            <a:avLst>
              <a:gd name="adj" fmla="val 89224"/>
              <a:gd name="vf" fmla="val 115470"/>
            </a:avLst>
          </a:prstGeom>
          <a:solidFill>
            <a:srgbClr val="0099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84800" y="2131920"/>
            <a:ext cx="76708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Energy comes in many f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chanical, electrical , magnetic, sola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rmal, chemical, etc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64720" y="4602240"/>
            <a:ext cx="7576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The SI unit of energy is 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Joule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252800" y="5668920"/>
            <a:ext cx="680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, like work, is a </a:t>
            </a: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scala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 flipH="1" flipV="1" rot="10800000">
            <a:off x="1668600" y="189360"/>
            <a:ext cx="5867280" cy="1600200"/>
          </a:xfrm>
          <a:prstGeom prst="pie">
            <a:avLst/>
          </a:prstGeom>
          <a:solidFill>
            <a:srgbClr val="ff0033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84000" y="166680"/>
            <a:ext cx="4264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Black"/>
              </a:rPr>
              <a:t>Kinetic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095920" y="974880"/>
            <a:ext cx="5013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ergy of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882800" y="1874880"/>
            <a:ext cx="553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moving object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mass have kinetic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473120" y="2997360"/>
            <a:ext cx="6273720" cy="1320480"/>
          </a:xfrm>
          <a:prstGeom prst="rect">
            <a:avLst/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005560" y="3160800"/>
            <a:ext cx="52279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KE = 1/2 mv</a:t>
            </a:r>
            <a:r>
              <a:rPr b="1" lang="en-US" sz="6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459800" y="4525920"/>
            <a:ext cx="6319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mass of the object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speed of the object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m/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the kinetic energy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30120" y="507960"/>
            <a:ext cx="8559720" cy="2006640"/>
          </a:xfrm>
          <a:prstGeom prst="rect">
            <a:avLst/>
          </a:prstGeom>
          <a:solidFill>
            <a:srgbClr val="00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218960" y="471600"/>
            <a:ext cx="6643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Work-Energy Theor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60520" y="1295280"/>
            <a:ext cx="794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net work done on an objec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l to its change in kinetic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52560" y="3962520"/>
            <a:ext cx="7315200" cy="1600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093680" y="4065480"/>
                <a:ext cx="69818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net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5T01:28:34Z</cp:lastPrinted>
  <dcterms:modified xsi:type="dcterms:W3CDTF">2011-02-21T01:07:31Z</dcterms:modified>
  <cp:revision>34</cp:revision>
  <dc:subject/>
  <dc:title>No Slide Title</dc:title>
</cp:coreProperties>
</file>